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CLIC.WAV" ContentType="audio/x-wav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00E-7064-4F88-A4F0-0C194CBB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90A-6C18-4BB6-9E33-1735B172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65D-0307-411C-ABFA-FBCBDD6C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7DA-4A5D-4702-A9C1-99E04E70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AC3-76CE-4AFC-8BC8-7CA2D391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BEF-8161-4A72-B7C1-A691DD19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25C-004D-45D1-B682-B5702E07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371-4ECF-4CB4-B5C4-1DE1F37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C20-DB58-439C-8D92-4AAE2EA6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BC3-0BBA-4368-831B-2A56B7EC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4F7-830E-445F-8C02-879A41F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86A-8396-45A7-BDAD-C82F1E89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43AC-7A83-4193-9A48-C31CFCA69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2" descr="PUBLICO1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42" name="Imagen 3" descr="MIPES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Cuadro de texto 4"/>
          <p:cNvSpPr/>
          <p:nvPr/>
        </p:nvSpPr>
        <p:spPr>
          <a:xfrm>
            <a:off x="1828800" y="304920"/>
            <a:ext cx="6934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assoon"/>
              </a:rPr>
              <a:t>Como Conserv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assoon"/>
              </a:rPr>
              <a:t>lo que se ha Gan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uadro de texto 5"/>
          <p:cNvSpPr/>
          <p:nvPr/>
        </p:nvSpPr>
        <p:spPr>
          <a:xfrm>
            <a:off x="1143000" y="1828800"/>
            <a:ext cx="71629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00b0f0"/>
                </a:solidFill>
                <a:latin typeface="Impact"/>
              </a:rPr>
              <a:t>Las 4 crisis del Recién Bautizad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A CRISIS DE LA INTEG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 O L U C I O N 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Imagen 7" descr="SILLA01"/>
          <p:cNvPicPr/>
          <p:nvPr/>
        </p:nvPicPr>
        <p:blipFill>
          <a:blip r:embed="rId2"/>
          <a:stretch/>
        </p:blipFill>
        <p:spPr>
          <a:xfrm>
            <a:off x="304920" y="4114800"/>
            <a:ext cx="3149640" cy="2362320"/>
          </a:xfrm>
          <a:prstGeom prst="rect">
            <a:avLst/>
          </a:prstGeom>
          <a:ln w="0">
            <a:noFill/>
          </a:ln>
        </p:spPr>
      </p:pic>
      <p:sp>
        <p:nvSpPr>
          <p:cNvPr id="95" name="Cuadro de texto 8"/>
          <p:cNvSpPr/>
          <p:nvPr/>
        </p:nvSpPr>
        <p:spPr>
          <a:xfrm>
            <a:off x="3962520" y="1981080"/>
            <a:ext cx="48765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A ATENCIÓN INMEDIATA Y PERS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YUDARLE A CONSEGUIR NUEV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A AMISTADES PROFUN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CARTA AMIST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VITARLO A ALMOR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O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A CRISIS DEL ESTI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D E S C R I P C I Ó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magen 8" descr="FUMA01"/>
          <p:cNvPicPr/>
          <p:nvPr/>
        </p:nvPicPr>
        <p:blipFill>
          <a:blip r:embed="rId2"/>
          <a:stretch/>
        </p:blipFill>
        <p:spPr>
          <a:xfrm>
            <a:off x="30492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Cuadro de texto 9"/>
          <p:cNvSpPr/>
          <p:nvPr/>
        </p:nvSpPr>
        <p:spPr>
          <a:xfrm>
            <a:off x="3962520" y="2133720"/>
            <a:ext cx="48765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lmente ocurre entre el año y el año y medio después de su baut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logra integrarse al nuevo 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asiste con regularidad, no ora, no estudia la Biblia, tiene una experiencia superficial, sigue divirtiéndose como antes, no puede cortar son sus v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ángulo 10"/>
          <p:cNvSpPr/>
          <p:nvPr/>
        </p:nvSpPr>
        <p:spPr>
          <a:xfrm>
            <a:off x="304920" y="2057400"/>
            <a:ext cx="312408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A CRISIS DEL ESTI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 Í N T O M A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Imagen 7" descr="FUMA01"/>
          <p:cNvPicPr/>
          <p:nvPr/>
        </p:nvPicPr>
        <p:blipFill>
          <a:blip r:embed="rId2"/>
          <a:stretch/>
        </p:blipFill>
        <p:spPr>
          <a:xfrm>
            <a:off x="30492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10" name="Cuadro de texto 8"/>
          <p:cNvSpPr/>
          <p:nvPr/>
        </p:nvSpPr>
        <p:spPr>
          <a:xfrm>
            <a:off x="3962520" y="2133720"/>
            <a:ext cx="48765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MENUDO NO ASISTE A LA ESCUELA SABA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CA ASISTENCIA A LOS CULTOS DE OR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LEE LITERATURA DENOMI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DOPTA POCAS COSTUMBRES TIPICAMENTE ADVEN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A CRISIS DEL ESTI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 O L U C I O N 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Imagen 7" descr="FUMA01"/>
          <p:cNvPicPr/>
          <p:nvPr/>
        </p:nvPicPr>
        <p:blipFill>
          <a:blip r:embed="rId2"/>
          <a:stretch/>
        </p:blipFill>
        <p:spPr>
          <a:xfrm>
            <a:off x="30492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Cuadro de texto 8"/>
          <p:cNvSpPr/>
          <p:nvPr/>
        </p:nvSpPr>
        <p:spPr>
          <a:xfrm>
            <a:off x="3962520" y="2133720"/>
            <a:ext cx="4876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PARTICIPE EN PEQUEÑOS GRU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EGURESE DE QUE TENGA EN LA CASA MATERIAL DE LECTURA ADVENT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LA CRISIS DEL LIDERAZ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D E S C R I P C I Ó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Imagen 8" descr="predica3"/>
          <p:cNvPicPr/>
          <p:nvPr/>
        </p:nvPicPr>
        <p:blipFill>
          <a:blip r:embed="rId2"/>
          <a:stretch/>
        </p:blipFill>
        <p:spPr>
          <a:xfrm>
            <a:off x="304920" y="4038480"/>
            <a:ext cx="3124080" cy="2438640"/>
          </a:xfrm>
          <a:prstGeom prst="rect">
            <a:avLst/>
          </a:prstGeom>
          <a:ln w="0">
            <a:noFill/>
          </a:ln>
        </p:spPr>
      </p:pic>
      <p:sp>
        <p:nvSpPr>
          <p:cNvPr id="124" name="Cuadro de texto 9"/>
          <p:cNvSpPr/>
          <p:nvPr/>
        </p:nvSpPr>
        <p:spPr>
          <a:xfrm>
            <a:off x="3962520" y="2133720"/>
            <a:ext cx="48765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lmente ocurre luego de estar integ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ienza a tener responsabilidades y descubre que no todos son “Sant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 desanima el hecho de pertenecer a una iglesia compuesta y dirigida por seres humanos que se equivo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ángulo 10"/>
          <p:cNvSpPr/>
          <p:nvPr/>
        </p:nvSpPr>
        <p:spPr>
          <a:xfrm>
            <a:off x="304920" y="2057400"/>
            <a:ext cx="312408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LA CRISIS DEL LIDERAZ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 Í N T O M A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Imagen 7" descr="predica3"/>
          <p:cNvPicPr/>
          <p:nvPr/>
        </p:nvPicPr>
        <p:blipFill>
          <a:blip r:embed="rId2"/>
          <a:stretch/>
        </p:blipFill>
        <p:spPr>
          <a:xfrm>
            <a:off x="304920" y="4038480"/>
            <a:ext cx="3124080" cy="2438640"/>
          </a:xfrm>
          <a:prstGeom prst="rect">
            <a:avLst/>
          </a:prstGeom>
          <a:ln w="0">
            <a:noFill/>
          </a:ln>
        </p:spPr>
      </p:pic>
      <p:sp>
        <p:nvSpPr>
          <p:cNvPr id="132" name="Cuadro de texto 8"/>
          <p:cNvSpPr/>
          <p:nvPr/>
        </p:nvSpPr>
        <p:spPr>
          <a:xfrm>
            <a:off x="3962520" y="2133720"/>
            <a:ext cx="48765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RI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PA DE LOS CHIS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ENTE DESAN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HAZA CAR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VELA DECISIONES DE LAS COM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ENTE ANS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LA CRISIS DEL LIDERAZ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 O L U C I O N 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Imagen 7" descr="predica3"/>
          <p:cNvPicPr/>
          <p:nvPr/>
        </p:nvPicPr>
        <p:blipFill>
          <a:blip r:embed="rId2"/>
          <a:stretch/>
        </p:blipFill>
        <p:spPr>
          <a:xfrm>
            <a:off x="304920" y="4038480"/>
            <a:ext cx="312408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Cuadro de texto 8"/>
          <p:cNvSpPr/>
          <p:nvPr/>
        </p:nvSpPr>
        <p:spPr>
          <a:xfrm>
            <a:off x="3962520" y="2133720"/>
            <a:ext cx="48765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ENTARLE EL ORIGEN DIVINO DE LA IGLE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ENTAR LA FRAGILIDAD HUMANA (HASTA EN LOS DISCIPULOS DE CRIS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ALTAR EL VALOR DE LAS DECISIONES DE LAS COMISIONES POR ENCIMA DE LAS OPINIONES PERS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Imagen 4" descr="Biblia-Esp-38-Mundo-Raz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á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Hay que tratar con </a:t>
            </a:r>
            <a:r>
              <a:rPr b="1" lang="es-AR" sz="3600" spc="-1" strike="noStrike">
                <a:solidFill>
                  <a:srgbClr val="ff0000"/>
                </a:solidFill>
                <a:latin typeface="Arial Narrow"/>
              </a:rPr>
              <a:t>paciencia y ternura</a:t>
            </a: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a los recién llegados a la fe, </a:t>
            </a:r>
            <a:r>
              <a:rPr b="1" lang="es-AR" sz="3600" spc="-1" strike="noStrike">
                <a:solidFill>
                  <a:srgbClr val="ff0000"/>
                </a:solidFill>
                <a:latin typeface="Arial Narrow"/>
              </a:rPr>
              <a:t>y los miembr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 Narrow"/>
              </a:rPr>
              <a:t>más antiguos de la iglesia</a:t>
            </a: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, tienen el de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de encontrar la forma de proporcion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 Narrow"/>
              </a:rPr>
              <a:t>ayuda, simpatía e instrucción</a:t>
            </a: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 para l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que han salido de otras iglesias p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amor a la verdad, y que en esta forma 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han separado de la obra pastoral a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que habían estado acostumbrados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(El evangelismo, pág. 258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á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Después que las personas se han converti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a la verdad, </a:t>
            </a:r>
            <a:r>
              <a:rPr b="1" lang="es-AR" sz="3200" spc="-1" strike="noStrike">
                <a:solidFill>
                  <a:srgbClr val="ff0000"/>
                </a:solidFill>
                <a:latin typeface="Arial Narrow"/>
              </a:rPr>
              <a:t>es necesario cuidarlas</a:t>
            </a: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Muchos recién convertidos necesitan cuidad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atención vigilante, ayuda y estímulo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 Narrow"/>
              </a:rPr>
              <a:t>No se los debe dejar solos</a:t>
            </a: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, a merced de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más poderosas tentaciones de Sataná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necesitan ser educados con respecto a sus deberes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hay que </a:t>
            </a:r>
            <a:r>
              <a:rPr b="1" lang="es-AR" sz="3200" spc="-1" strike="noStrike">
                <a:solidFill>
                  <a:srgbClr val="ff0000"/>
                </a:solidFill>
                <a:latin typeface="Arial Narrow"/>
              </a:rPr>
              <a:t>tratarlos bondadosamente, conducirl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 Narrow"/>
              </a:rPr>
              <a:t>visitarlos y orar con ellos</a:t>
            </a: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Estas almas necesitan el alimento asignado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cada uno a su debido tiempo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(El evangelismo,  pág. 25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ángulo 9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ángulo 7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Cuadro de texto 4"/>
          <p:cNvSpPr/>
          <p:nvPr/>
        </p:nvSpPr>
        <p:spPr>
          <a:xfrm>
            <a:off x="304920" y="3049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Según el pastor Mark Finl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l recién convertido puede pas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uadro de texto 5"/>
          <p:cNvSpPr/>
          <p:nvPr/>
        </p:nvSpPr>
        <p:spPr>
          <a:xfrm>
            <a:off x="457200" y="5943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uede pasar una o to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uadro de texto 8"/>
          <p:cNvSpPr/>
          <p:nvPr/>
        </p:nvSpPr>
        <p:spPr>
          <a:xfrm>
            <a:off x="0" y="2057400"/>
            <a:ext cx="9144000" cy="2531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000000"/>
                </a:solidFill>
                <a:latin typeface="Bassoon"/>
              </a:rPr>
              <a:t>Las 4 crisi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000000"/>
                </a:solidFill>
                <a:latin typeface="Bassoon"/>
              </a:rPr>
              <a:t>del recién llegad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ángulo 7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ángulo 2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LA CRISIS DEL DESAN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uadro de texto 3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D E S C R I P C I Ó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ángulo 8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uadro de texto 9"/>
          <p:cNvSpPr/>
          <p:nvPr/>
        </p:nvSpPr>
        <p:spPr>
          <a:xfrm>
            <a:off x="3962520" y="2133720"/>
            <a:ext cx="4876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uede cumplir su compromiso público (bautism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viejos hábitos lo asaltan. (vici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 estima propia esta baja, se Cree un hipócr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logra vivir a la altura de las nor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aparta, trata de hu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magen 10" descr="CONFOR01"/>
          <p:cNvPicPr/>
          <p:nvPr/>
        </p:nvPicPr>
        <p:blipFill>
          <a:blip r:embed="rId2"/>
          <a:stretch/>
        </p:blipFill>
        <p:spPr>
          <a:xfrm>
            <a:off x="228600" y="4038480"/>
            <a:ext cx="3225960" cy="2495520"/>
          </a:xfrm>
          <a:prstGeom prst="rect">
            <a:avLst/>
          </a:prstGeom>
          <a:ln w="0">
            <a:noFill/>
          </a:ln>
        </p:spPr>
      </p:pic>
      <p:sp>
        <p:nvSpPr>
          <p:cNvPr id="59" name="Rectángulo 12"/>
          <p:cNvSpPr/>
          <p:nvPr/>
        </p:nvSpPr>
        <p:spPr>
          <a:xfrm>
            <a:off x="304920" y="2057400"/>
            <a:ext cx="312408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LA CRISIS DEL DESAN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 Í N T O M A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uadro de texto 7"/>
          <p:cNvSpPr/>
          <p:nvPr/>
        </p:nvSpPr>
        <p:spPr>
          <a:xfrm>
            <a:off x="3962520" y="2133720"/>
            <a:ext cx="48765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USENT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ÉRDIDA DE LA ALEGRÍA DE LA VIDA CRISTI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ÉRDIDA DEL DESEO DE PERMANECER MUCHO TIEMPO EN LA IGLE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APRETÓN RÁPIDO Y DISPOSICIÓN F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magen 8" descr="CONFOR01"/>
          <p:cNvPicPr/>
          <p:nvPr/>
        </p:nvPicPr>
        <p:blipFill>
          <a:blip r:embed="rId2"/>
          <a:stretch/>
        </p:blipFill>
        <p:spPr>
          <a:xfrm>
            <a:off x="279360" y="4114800"/>
            <a:ext cx="32259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LA CRISIS DEL DESAN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 O L U C I O N 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uadro de texto 7"/>
          <p:cNvSpPr/>
          <p:nvPr/>
        </p:nvSpPr>
        <p:spPr>
          <a:xfrm>
            <a:off x="3962520" y="2133720"/>
            <a:ext cx="48765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LLAMADO TELEF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PALABRA TRANQUILIZ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BREVE 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VISITA PAST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CUCHARLO SIN CONDEN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n 8" descr="CONFOR01"/>
          <p:cNvPicPr/>
          <p:nvPr/>
        </p:nvPicPr>
        <p:blipFill>
          <a:blip r:embed="rId2"/>
          <a:stretch/>
        </p:blipFill>
        <p:spPr>
          <a:xfrm>
            <a:off x="279360" y="4114800"/>
            <a:ext cx="32259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A CRISIS DE LA INTEG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D E S C R I P C I Ó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agen 8" descr="SILLA01"/>
          <p:cNvPicPr/>
          <p:nvPr/>
        </p:nvPicPr>
        <p:blipFill>
          <a:blip r:embed="rId2"/>
          <a:stretch/>
        </p:blipFill>
        <p:spPr>
          <a:xfrm>
            <a:off x="304920" y="4038480"/>
            <a:ext cx="3149640" cy="2438640"/>
          </a:xfrm>
          <a:prstGeom prst="rect">
            <a:avLst/>
          </a:prstGeom>
          <a:ln w="0">
            <a:noFill/>
          </a:ln>
        </p:spPr>
      </p:pic>
      <p:sp>
        <p:nvSpPr>
          <p:cNvPr id="80" name="Cuadro de texto 10"/>
          <p:cNvSpPr/>
          <p:nvPr/>
        </p:nvSpPr>
        <p:spPr>
          <a:xfrm>
            <a:off x="3962520" y="2133720"/>
            <a:ext cx="4876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logra reemplazar los antiguos amigos por nue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epta las doctrinas pero no se integra a su estructur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siente s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ángulo 11"/>
          <p:cNvSpPr/>
          <p:nvPr/>
        </p:nvSpPr>
        <p:spPr>
          <a:xfrm>
            <a:off x="304920" y="2057400"/>
            <a:ext cx="312408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ángulo 2"/>
          <p:cNvSpPr/>
          <p:nvPr/>
        </p:nvSpPr>
        <p:spPr>
          <a:xfrm>
            <a:off x="1828800" y="1143000"/>
            <a:ext cx="7315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ángulo 3"/>
          <p:cNvSpPr/>
          <p:nvPr/>
        </p:nvSpPr>
        <p:spPr>
          <a:xfrm>
            <a:off x="1828800" y="0"/>
            <a:ext cx="7315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A CRISIS DE LA INTEG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uadro de texto 4"/>
          <p:cNvSpPr/>
          <p:nvPr/>
        </p:nvSpPr>
        <p:spPr>
          <a:xfrm>
            <a:off x="2209680" y="121932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 Í N T O M A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ángulo 5"/>
          <p:cNvSpPr/>
          <p:nvPr/>
        </p:nvSpPr>
        <p:spPr>
          <a:xfrm>
            <a:off x="0" y="0"/>
            <a:ext cx="1828800" cy="175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ángulo 6"/>
          <p:cNvSpPr/>
          <p:nvPr/>
        </p:nvSpPr>
        <p:spPr>
          <a:xfrm>
            <a:off x="152280" y="1905120"/>
            <a:ext cx="3429000" cy="4724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n 7" descr="SILLA01"/>
          <p:cNvPicPr/>
          <p:nvPr/>
        </p:nvPicPr>
        <p:blipFill>
          <a:blip r:embed="rId2"/>
          <a:stretch/>
        </p:blipFill>
        <p:spPr>
          <a:xfrm>
            <a:off x="304920" y="4114800"/>
            <a:ext cx="3149640" cy="2362320"/>
          </a:xfrm>
          <a:prstGeom prst="rect">
            <a:avLst/>
          </a:prstGeom>
          <a:ln w="0">
            <a:noFill/>
          </a:ln>
        </p:spPr>
      </p:pic>
      <p:sp>
        <p:nvSpPr>
          <p:cNvPr id="88" name="Cuadro de texto 8"/>
          <p:cNvSpPr/>
          <p:nvPr/>
        </p:nvSpPr>
        <p:spPr>
          <a:xfrm>
            <a:off x="3962520" y="1981080"/>
            <a:ext cx="48765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IENZA A LLEGAR TARDE A LA IGLE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ALE INMEDIATAMENTE DESPUES DEL HIMNO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SENTAR S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CAS ACTIVIDADES SO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CA ASISTENCIA A LA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COS AMIGOS EN LA IGLE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3T20:43:46Z</dcterms:created>
  <dc:creator>(T) Heriberto Peter (D) Ivan Samojluk</dc:creator>
  <dc:description/>
  <dc:language>en-US</dc:language>
  <cp:lastModifiedBy>Ney Devis</cp:lastModifiedBy>
  <cp:lastPrinted>1999-05-24T18:54:49Z</cp:lastPrinted>
  <dcterms:modified xsi:type="dcterms:W3CDTF">2010-06-07T14:16:55Z</dcterms:modified>
  <cp:revision>13</cp:revision>
  <dc:subject/>
  <dc:title>MIPES - Para Conservar - 4 Crisis</dc:title>
</cp:coreProperties>
</file>